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80B-4FD4-454E-983D-CB7B4E16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79D-99DE-44DA-838D-E0483F3B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86D-5197-49CF-AD63-EC438C55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224-7670-4151-B3C7-2F60137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C7D4-CC4E-4E64-94DA-1F328BD6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C9B4-3BC9-4943-B437-82BF762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074-3041-4069-9F2E-6BD68F5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CD18-062A-4BB0-9851-7B3B468B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AFF5-5CD4-45E0-A37A-FE7EC88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2488-22FB-4B7E-9663-613B5CE8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A10-5DDC-4EFF-88AF-C32CDDB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3E9-0BE0-45AB-9FEE-4F14F3A7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72D8-433D-4253-BA53-393A8AD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EDB-72B7-4CA2-B899-D8BC9C8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C6F-18B3-41F9-AA37-556A004D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E0F-D6B1-431A-A045-90B35E29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4E4B-15CD-43C1-8407-ACCDCB76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564-F486-4C84-898F-0BCED5D4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106-55CF-40B3-A236-C119AE45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CEC-4F4D-48CF-9EA7-38FDA8DD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C75-7890-4AF8-988B-67E032D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EEF-8BF8-4BC6-A0AC-6FED3C5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888-B974-4A12-BA0E-82915EB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3BA-DD05-4FE9-B5FC-2F3D7B37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2F02-006E-4273-B55B-0ABD10520A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5B2-1EE5-4515-BFB6-72A9D5FD18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ocities.com/theawakeningnews/satan_sign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ical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new Shape came out in 19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 of the Dollar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&amp; Linen Blend with Red and Blue minute silk fibers running through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washed money and noticed that it did not fall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953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558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inally …….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Have you ever heard that the number 13 is an unlucky number?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Stars above the Ea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Bars on the Sh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Steps on the Pyram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Letters in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IT COEPTIS “God Had Favored our undertaking”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leaves on the olive bra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 ar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Triggers Right 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ome Interesting Facts ………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ight Wing of the Eagle has 32 fea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eft Wing of the Eagle has 33 fea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feathers on the Eagle’s t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20968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Number Of Ordinary Degrees in Freemason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03848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Additional Feather corresponds for the Outstan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sonic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715000"/>
            <a:ext cx="61722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son’s reference to the 9 chapters in their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Guess You Might Want To Look On Your Dollar Bill Once More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111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Hidden Secrets &amp; Its Interpret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28800" y="4343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43434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172200"/>
            <a:ext cx="1828800" cy="45720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6095880"/>
            <a:ext cx="1828800" cy="45720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#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33520"/>
            <a:ext cx="5181840" cy="6094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Back Bone Of the One Dollar B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58676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533520"/>
            <a:ext cx="26668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nuit Coept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d Has Favored our undertak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304812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yramid being un-capped me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at we’re not even close to being finis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195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all seeing Ey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Divi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4114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man Numeral for 177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3341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VUS ORDO SECLOROM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new order has begu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895480" y="914040"/>
            <a:ext cx="19051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047760" y="1981080"/>
            <a:ext cx="2438280" cy="53352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95120" y="1905120"/>
            <a:ext cx="2667240" cy="11430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895120" y="4343400"/>
            <a:ext cx="2057400" cy="7632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95480" y="5334120"/>
            <a:ext cx="19051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4191120"/>
            <a:ext cx="1676160" cy="533160"/>
          </a:xfrm>
          <a:prstGeom prst="ellipse">
            <a:avLst/>
          </a:prstGeom>
          <a:noFill/>
          <a:ln w="76320">
            <a:solidFill>
              <a:srgbClr val="9307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5943600" cy="6248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83808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iginal Colonies as they come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gether as on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0512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PLURIBUS UNUM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 Of Many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supported Shiel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Country Can Stand on Its 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114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ive Branch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Pe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257800"/>
            <a:ext cx="251460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row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gn of War  to preserve Pe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19520" y="1066680"/>
            <a:ext cx="2590560" cy="4572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895480" y="2209320"/>
            <a:ext cx="2362320" cy="2286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895480" y="3200400"/>
            <a:ext cx="2438640" cy="4572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480" y="4114800"/>
            <a:ext cx="1067040" cy="15228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895480" y="4419720"/>
            <a:ext cx="4267440" cy="1143000"/>
          </a:xfrm>
          <a:prstGeom prst="line">
            <a:avLst/>
          </a:prstGeom>
          <a:ln w="76320">
            <a:solidFill>
              <a:srgbClr val="9307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53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What Is Hidden ??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57600" y="6095880"/>
            <a:ext cx="24382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28800" y="6095880"/>
            <a:ext cx="571500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Owl” Means they are wa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’s a Sign Of  A Curse in Masonry &amp; Satanic Belief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0520" y="152280"/>
            <a:ext cx="2448000" cy="1581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2190600" cy="188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28600" y="3886200"/>
            <a:ext cx="248112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95480" y="2495520"/>
            <a:ext cx="3267360" cy="4286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305400" y="1752480"/>
            <a:ext cx="2762280" cy="228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867280" y="4343400"/>
            <a:ext cx="3276720" cy="2365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019240" y="0"/>
            <a:ext cx="1714680" cy="190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1447920" cy="990720"/>
          </a:xfrm>
          <a:prstGeom prst="rightArrow">
            <a:avLst>
              <a:gd name="adj1" fmla="val 50000"/>
              <a:gd name="adj2" fmla="val 3653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n Lav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0:38:46Z</dcterms:created>
  <dc:creator>onouri</dc:creator>
  <dc:description/>
  <dc:language>en-US</dc:language>
  <cp:lastModifiedBy>AAA</cp:lastModifiedBy>
  <dcterms:modified xsi:type="dcterms:W3CDTF">2006-10-07T06:58:44Z</dcterms:modified>
  <cp:revision>7</cp:revision>
  <dc:subject/>
  <dc:title>Hidden Secrets Of the One Dollar Bill</dc:title>
</cp:coreProperties>
</file>